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  <p:custShowLst>
    <p:custShow name="Nachmittag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94C-C789-4E03-B9BE-C550ADE3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C48-9E6A-4707-8206-50FE89A7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D3D-29B1-441E-ADBD-8327EE4F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727-A207-444F-A917-E3EB33BF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6C9-1A55-497D-95CB-D80DAC33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659-A361-421B-B1CF-9EFF999E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9E1-9D06-4D6B-A5D9-1D528445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2B7-B674-42D0-A0F1-7C124FB5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A5C-9454-4546-A053-B95099B7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CF1-DE04-486F-B697-FA397F5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B29-FBA4-4F49-9EDA-E36E9DE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ADB-1241-49C4-83F3-B2D0AF2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64C0-5E46-4CA1-9288-979F036CEA4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„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Unter der Motorhaube“</a:t>
            </a:r>
            <a:br>
              <a:rPr sz="3600"/>
            </a:b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Java von inn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ahclogo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4191120" cy="1312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53341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rno.Haase@Haase-Consult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rno.Haase@acm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ww.Haase-Consult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Standard-Hierarchie: Bootstrap-C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9880" y="1523880"/>
            <a:ext cx="464832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er Bootstrap-ClassLoader ist die Wurzel der CL-Hierarc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ziger ClassLoader ohne 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r lädt die JDK-Klas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curity: kein anderer ClassLoader kann Klassen aus java.* la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einfachung: rt.jar muss nicht im classpath ste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Xbootclassp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r lädt nicht Tools.j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057400"/>
            <a:ext cx="1828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ootstrap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429000"/>
            <a:ext cx="1828800" cy="685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tension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800600"/>
            <a:ext cx="1828800" cy="685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14680" y="4191120"/>
            <a:ext cx="380880" cy="533160"/>
          </a:xfrm>
          <a:prstGeom prst="upArrow">
            <a:avLst>
              <a:gd name="adj1" fmla="val 44167"/>
              <a:gd name="adj2" fmla="val 43329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14680" y="2819520"/>
            <a:ext cx="380880" cy="533160"/>
          </a:xfrm>
          <a:prstGeom prst="upArrow">
            <a:avLst>
              <a:gd name="adj1" fmla="val 44167"/>
              <a:gd name="adj2" fmla="val 43329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130-6E14-4E66-992E-B93510DC2C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Standard-Hierarchie: Extension-C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9880" y="1523880"/>
            <a:ext cx="464832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er Extension-ClassLoader lädt global installierte Bibliotheken / Erweiter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lle Archive aus $JAVA_HOME/lib/ext und $JAVA_HOME/jre/lib/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chtbar für alle Anwend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abhängig vom classp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hat Vorrang für Anwendungsklas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parate Security-Privilegien mögl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.B. JCE, JSSE,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057400"/>
            <a:ext cx="1828800" cy="685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ootstrap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429000"/>
            <a:ext cx="1828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tension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800600"/>
            <a:ext cx="1828800" cy="685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4680" y="4191120"/>
            <a:ext cx="380880" cy="533160"/>
          </a:xfrm>
          <a:prstGeom prst="upArrow">
            <a:avLst>
              <a:gd name="adj1" fmla="val 44167"/>
              <a:gd name="adj2" fmla="val 43329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14680" y="2819520"/>
            <a:ext cx="380880" cy="533160"/>
          </a:xfrm>
          <a:prstGeom prst="upArrow">
            <a:avLst>
              <a:gd name="adj1" fmla="val 44167"/>
              <a:gd name="adj2" fmla="val 43329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175-8A37-4FB4-A479-9370E8A914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Standard-Hierarchie: Application-C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880" y="1523880"/>
            <a:ext cx="464832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er Application-ClassLoader lädt die Anwendungsklas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uche anhand des classp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ystem.getProperty (“java.class.path“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legiert an Extension- und Bootstrap-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ird auch als System ClassLoader bezeich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 Anwendung kann ihrerseits Child-ClassLoader verwe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.B. in Application Serv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057400"/>
            <a:ext cx="1828800" cy="685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ootstrap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429000"/>
            <a:ext cx="1828800" cy="685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tension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800600"/>
            <a:ext cx="1828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14680" y="4191120"/>
            <a:ext cx="380880" cy="533160"/>
          </a:xfrm>
          <a:prstGeom prst="upArrow">
            <a:avLst>
              <a:gd name="adj1" fmla="val 44167"/>
              <a:gd name="adj2" fmla="val 43329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14680" y="2819520"/>
            <a:ext cx="380880" cy="533160"/>
          </a:xfrm>
          <a:prstGeom prst="upArrow">
            <a:avLst>
              <a:gd name="adj1" fmla="val 44167"/>
              <a:gd name="adj2" fmla="val 43329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B18-5953-4C27-B62E-CCC5D35A5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Eigener ClassLoa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ubklasse von Class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Parent-ClassLoader als Parameter im Konstruktor (opt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indClass implementi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legieren (opt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yte-Array beschaff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fineClass aufruf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aching (optional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plizit verwe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cl.findClass (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Class.forName (name, true, c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enn ein Objekt implizit Klassen nachlädt, werden die mit dem gleichen ClassLoader gela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2438280"/>
            <a:ext cx="4343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class MyCL extends ClassLoader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public Class findClass (String nam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hrows ClassNotFoundExce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final byte[] b = createData (nam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turn defineClass (name, b, 0, b.lengt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private byte[] createData (String nam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.... // Daten holen, z.B. 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08D-B367-4E9E-8E57-C6A85DE6D7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ründe für Classloa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as ClassLoader-Konzept bietet eine Reihe von Vorteil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tandardisierter Lade- und Link-Vorg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lexibilität, woher Klassen kom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lassLoader ist Teil der Identität einer Klasse, so dass mehrere Versionen einer Klasse parallel laufen kön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schiedene ClassLoader könenn verschiedene Security-Privilegien erhal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lassen aus verschiedenen ClassLoadern sind von einander isoliert (Application Ser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m Ende des Lebenszyklus eines ClassLoaders können alle seine Klassen aufgeräumt we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DD0-1C4B-486E-8550-C711AAAD28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Beispiel: ClassLoader im App-Serv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041-2C5D-443D-B623-F175BCA604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Context ClassLoa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elchen ClassLoader soll man verwenden, um Klassen oder Ressourcen explizit zu lad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lass.forName () verwendet this.getClass().getClassLoader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read.currentThread.getContextClassLoader() ist speziell für diesen Zweck geda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liefert per Default den System Class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ird von Application Servern über die entsprechende set-Methode „richtig“ gesetz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ichtiger Unterschied z.B. in Bibliotheken, die evtl. über einen anderen ClassLoader geladen we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D5D-4C51-4E6E-9B1B-90AA3A79A6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Laden von Klassen im Hintergrun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as Laden von Klassen kostet Z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erade bei Client-Anwendungen Verzögerung beim Star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ösung: Klassen in Hintergrundthread nachla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s Initialisieren der Klassen kann problematisch 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lass.forName (“... “,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, classload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lassLoader je nach Situation wäh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 Liste der nachzuladenden Klassen kann man oft als Teil des Build-Prozesses generi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Server-Prozessen ist das oft nicht sinnvo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D5E-3966-491A-9E9F-752F46C371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unsichtbare Klass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lassen „sehen“ nur Klassen, die in der CL-Hierarchie über ihnen ste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.B. Application Server mit Bug im Session Management: Session überlebt Redepl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.B. Bibliothek, die als Extension registriert ist und Reflection einsetzt: Class.forName() kann fehlschlagen, während Context ClassLoader funktioni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sprechend oft für Bibliotheken im Application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stanzen und Klassen als Parameter sind kein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5F6-45DB-4818-80A5-8774443158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enerierender Classloa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lassLoader müssen Klassendefinitionen nicht aus einer Datei einle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trumentierung zur Laufz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Prof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overage-Ana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ra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lette Generierung von Bytecode zur Laufz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.B. festes Interface </a:t>
            </a:r>
            <a:r>
              <a:rPr b="0" lang="de-DE" sz="1600" spc="-1" strike="noStrike">
                <a:solidFill>
                  <a:srgbClr val="ffffff"/>
                </a:solidFill>
                <a:latin typeface="Courier New"/>
              </a:rPr>
              <a:t>AttributeGetter {Object get(Object o);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ourier New"/>
              </a:rPr>
              <a:t>findClass (“x.y.name“)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liefert eine Klasse, die die Methode als </a:t>
            </a:r>
            <a:r>
              <a:rPr b="0" lang="de-DE" sz="1600" spc="-1" strike="noStrike">
                <a:solidFill>
                  <a:srgbClr val="ffffff"/>
                </a:solidFill>
                <a:latin typeface="Courier New"/>
              </a:rPr>
              <a:t>o.getX().getY().getName()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implementie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fbau der Class-Datei: spä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DBD-6E2C-46FC-AFA2-F14EA2C190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Bezug zur Architektur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in solides Verständnis der Plattform ist Basis für Softwarearchitekt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 Möglichkeiten der Plattform zeigen Möglichkeiten für architektonische Gestaltung auf und inspirier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ie Architektur-Sicht ist Basis für den Umgang mit der Platt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leine Features und Besonderheiten können große Auswirkungen hab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410080"/>
            <a:ext cx="678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... und tiefes Verständnis macht Spaß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1B2-499E-4ADF-996D-63431F7C45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Übersich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Laden von Kl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Aufbau einer class-Dat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Initialisieren von Kl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Garbage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348-E2D5-46BC-91BC-C5C3BDE418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Allgemeines zu class-Datei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rgebnis des Compilier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ine je Klasse (auch innere Klas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festes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uss nicht aus Java compilier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ere Spra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rekt generi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88D-AEB6-4246-838A-33F46F73DA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class-Dateien: Constant Po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676520"/>
            <a:ext cx="2286000" cy="4495680"/>
          </a:xfrm>
          <a:prstGeom prst="rect">
            <a:avLst/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80920" y="1523880"/>
            <a:ext cx="487692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er Constant Pool enthält alle variablen Anteile der K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ird vom Rest der class-Datei referenzi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schiedenste Einträ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trings, Zahlenkonsta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ll qualifizierte Klassenna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ethodennamen inkl. Typen von Parametern und Rückgabew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ttribute mit Verweis auf String und Ty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lle referenzierten Details von anderen Klas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13372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stant 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0574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stant 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30481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formatio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r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98108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stant 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426708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1911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11480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3341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25780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18148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tho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1E7-3ED5-4495-BA5B-17F6F59E2C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class-Dateien: Informationen zur Klas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676520"/>
            <a:ext cx="2286000" cy="4495680"/>
          </a:xfrm>
          <a:prstGeom prst="rect">
            <a:avLst/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0920" y="1523880"/>
            <a:ext cx="487692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 class-Datei enthält alle Informationen zur Klasse selb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ll qualifizierter Klassen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asisklas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Liste der implementierten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chtbarke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bstract,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1337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205740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304812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formatio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r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98108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stant 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426708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1911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11480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53341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25780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18148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tho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C6B-CBB2-4C6E-A40E-D4F0EAB245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class-Dateien: Variabl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676520"/>
            <a:ext cx="2286000" cy="4495680"/>
          </a:xfrm>
          <a:prstGeom prst="rect">
            <a:avLst/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80920" y="1523880"/>
            <a:ext cx="487692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 class-Datei enthält die Informationen zu jeder Variab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yp als String-Darstell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chtbarke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1337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05740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0481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formatio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r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98108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stant 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26708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419112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1148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53341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25780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518148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tho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A93-0666-4115-9B71-52982E075E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class-Dateien: Method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676520"/>
            <a:ext cx="2286000" cy="4495680"/>
          </a:xfrm>
          <a:prstGeom prst="rect">
            <a:avLst/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80920" y="1523880"/>
            <a:ext cx="487692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formationen zu jeder Me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weis auf den Namen inkl. Signat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griffsfl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lock mit Byte-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ggf. separate Blöcke mit try/catch-Informationen (opt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parater Block mit Zuordnung der Zeilennummern (opt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parater Block mit Namen der lokalen Variablen (opt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liebige weitere Blöcke ohne funktionale Bedeutu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205740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0481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formatio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r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98108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stant 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26708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419112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114800"/>
            <a:ext cx="1600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533412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tho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52578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tho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518148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tho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F3E-2BE1-4074-9F47-CB0B74CED0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Ausführen von Byte Co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yte Code muss interpretiert oder compilier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IT-Compiler erzeugen zur Laufzeit Maschinen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ptimierung aufgrund von Laufzeitmess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as SUN-JDK bietet drei Möglichk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-Xint: reiner Intrpreter ohne JIT-Compiler, sehr langsam, nur zu exotischen Debug-Zwec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-client (default): HotSpot in der Client-Version, optimiert auf Startzeit und Speicherverbrau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-server: HotSpot in der Server-Version, optimiert auf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116-0251-469F-A4DE-828060C290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final optimiert nich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r Mythos hält sich hartnäckig, dass die Verwendung von final die Performance verbess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ttribute und lokale Variablen: Die Information, ob die Variable final ist, wird nicht einmal in der class-Datei abgespeiche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ethoden und Klassen: final wird abgespeichert aber von HotSpot ignoriert – statt dessen Optimierung aufgrund von Performance-Mess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... aber es gibt gute Gründe, final zu verwend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elbst dokumentierender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meidung subtiler Bugs bei der Objekterzeug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5A5-3E16-4009-93DF-C1C1584817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import kostet keine Perform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nzahl, Reihenfolge und Stil der import-Statements beeinflussen die Performance nic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mport-Statements erscheinen nicht in der class-Datei, alle Klassennamen werden voll qualifiziert abgele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überflüssige oder unnötig allgemeine imports werden ignori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inziger Gesichtspunkt: übersichtliche Gestaltung des Quelltex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tilf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A6E-15EF-48C0-8A6F-CC7F747624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try-Blöcke kosten keine Perform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s kursiert das Gerücht, dass try-Blöcke Performance kosten, auch wenn keine Exception geworfen wi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ry-Statements erscheinen nicht im Byt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tatt dessen Tabellen, welche Handler wo greif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lso keine unnötigen Operationen, die auch im Gut-Fall ausgeführt werden müs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xceptions </a:t>
            </a: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werfen / fangen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st relativ teuer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... aber das ist im Fehlerfall meist nicht so wicht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D40-E965-4984-A82A-AF38A242A9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Übersich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Laden von Kl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Aufbau einer class-Dat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Initialisieren von Kl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Garbage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26F-CB0A-49D3-A72C-BDEE72A6E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innere Klassen sind norm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nere Klassen sind eigenständige Klass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e liegen in eigenen class-Dateien und werden separat geladen und behand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as gilt auch für nicht-statische und anonyme Klass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e sind also ohne Einschränkung verwendb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 Beziehung zur umgebenden Klasse wird automatisch verwalt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r Klassenname der inneren Klasse enthält den der umgebenden Klas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m Compiler wird automatisch Code generiert, der eine Referenz auf die umgebende Klasse an die innere Klasse übergib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652-6DCB-4925-A08B-88CF67AC64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Übersich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Laden von Kl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Aufbau einer class-Dat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Initialisieren von Kl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Garbage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3BE-AD07-4BC3-80A2-535A815165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wohldefinierter Zeitpunkt der statischen Initialisieru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Java garantiert, dass Klassen erst zum spätest möglichen Zeitpunkt initialisier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mittelbar vor der ersten Verwendung, also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n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schon beim La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ers als in anderen Sprachen, z.B.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onkrete Auslös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rzeugung einer Insta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fruf einer statischen Me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griff auf eine statische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lass.forName 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C4C-D792-466B-8ADF-257A1B8B32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Ablauf der statische Initialisieru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i der Initialisierung werden der Reihe nach die einzelnen Initialisierungen ausgefüh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tatische Variablen mit zugewiesenem W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tatische Initialisierer-Blöc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der Reihenfolge, die im Quelltext ste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i der Initialisierung sind statische Variablen, die weiter unten stehen, noch nicht sichtb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55D-B328-4C26-9A19-878B1E1874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primitive Konstanten werden zur Compilezeit gebund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Normalerweise wertet Java Ausdrücke erst zur Laufzeit a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griffe auf Variablen und Methoden anderer Objekte werden tatsächlich durchgefüh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usnahme: statische Konstan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enn Klasse A auf eine statisch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nstante in Klasse B zugreift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ird der Wert statt des Zugriffs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bgespeich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eukompilieren von B hat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einen Einfluss auf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4952880"/>
            <a:ext cx="2895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tatic final int X =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3505320"/>
            <a:ext cx="2895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void a 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ystem.out.println (B.X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DF1-0377-4073-90DB-519C06FA5F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Synchronisieru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ie Laufzeitumgebung stellt sicher, dass die statische Initialisierung einer Klasse synchronisiert wi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ere Threads müssen ggf. war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ede Klasse wird garantiert nur einmal initialisie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uch Klassen selbst sind Objekte und werden von der Garbage Collection entfer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eit JDK 1.2 nur noch nach GC des ClassLoaders, also wenn ohnehin kein Zugriff auf die Klasse mehr möglich wä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50A-77F3-44B1-9B25-9217F611E9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Singleton-Implementieru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s gibt fast immer bessere Alternativen zum Singlet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urchreichen einer Refere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urier New"/>
              </a:rPr>
              <a:t>ThreadLo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oblem: Erzeugen genau einer Instanz, auch wenn mehrere Threads gleichzeitig zugrei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enn Singleton,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ann 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4495680"/>
            <a:ext cx="350496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ublic class MySinglet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ublic static MySingleton 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 new MySingleton 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rivate MySingleton () {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56F-35B6-4808-9006-8735DF50D3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Double Checked Locking funktioniert erst ab JDK 1.5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r folgende Code scheint zu optimier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unktioniert nicht wegen Lücken in der Spezif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lternativ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globale Variablen vermei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ngleton-Implementierung verwen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e ganze Methode synchronized mac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2057400"/>
            <a:ext cx="51814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rivate static MySingleton instance = nul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ublic static MySingleton getInstance 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if (instance == null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ynchronized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if (instance == null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instance = new MySingleton 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return instanc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FE0-5D31-45A9-8CCD-311B2EFB8F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Übersich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Laden von Kl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Aufbau einer class-Dat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ccff"/>
                </a:solidFill>
                <a:latin typeface="Times New Roman"/>
              </a:rPr>
              <a:t>Initialisieren von Kl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Garbage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0D8-89DB-43E0-96B0-09CA7AC5A1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arbage Colle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ie JVM entfernt Objekte aus dem Speicher, wenn es keine Referenz mehr auf sie gi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tatische Variab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read-Obje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finalize-Methoden werden aufge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eigenem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hne L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r Zeitpunkt, wann eine Garbage Collection durchgeführt wird, ist undefini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rgendwann bevor der Heap voll 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eine Garantie für Freigabe von konkretem Ob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112-847A-4396-BDAF-EEBDDC965B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Classloa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ede Java-Klasse wird von einem ClassLoader gela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in-Klas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plizit wegen Vorkommen im Quell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xplizit per Ref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lassLoader ist eine Fa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urier New"/>
              </a:rPr>
              <a:t>findClass()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String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urier New"/>
              </a:rPr>
              <a:t>ClassLoader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ist abstrakt, Subklassen implementieren 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</a:rPr>
              <a:t>findClas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Hilfsmethode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defineClass()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byte[]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ührt die Überprüfungen du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uft intern 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native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Code a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st aus Sicherheitsgründen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F24-BC8E-4A65-ABE5-3CC6615060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38280" y="3276720"/>
            <a:ext cx="3810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Perofmance und Garbage Colle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nwendungen können leicht 10% und mehr ihrer Zeit mit GC verbring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C ist schlecht parallelisierbar, deshalb ist der Anteil bei Mehrprozessorsystemen noch größ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GcMultiprocessor" descr=""/>
          <p:cNvPicPr/>
          <p:nvPr/>
        </p:nvPicPr>
        <p:blipFill>
          <a:blip r:embed="rId1"/>
          <a:stretch/>
        </p:blipFill>
        <p:spPr>
          <a:xfrm>
            <a:off x="2286000" y="3216240"/>
            <a:ext cx="403848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01C-F468-4764-9B86-D746D8E537C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Kriterien für gute G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an kann die Garbage Collection bei Java konfiguri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s gibt mehrere Verfahren zur Auswah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n kann Parameter einstel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eder Ansatz ist ein Kompromiss zwis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bsoluter Perfor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ximaler Verzög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eicherbedar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fragmentierung des Speic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s gibt nicht die eine Lösung, die für jede Anwendung optimal 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60D-A649-42F3-A863-61B1ABA447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rundprinzip der Garbage Colle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lle GC-Verfahren von Java (SUN-JDK) haben das gleiche Grundprinzi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 „lebendigen“ Objekte werden kopie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ür die übrigen Objekte werden Finalizer aufgeruf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er Speicher wird freigegeb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ie Verfahren unterscheiden sich in der Speicherverwaltu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ie Dauer hängt von Anzahl der </a:t>
            </a: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überlebende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Objekte ab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DB4-929E-437F-8271-B2631099B8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Lebensdauer von Objekt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ie meisten Java-Objekte leben nur sehr kurz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mporäre Objekte, z.B. Iterato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bjekte, die für die Dauer eines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Requests erzeugt we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ufteilung des Heap in zwei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„Generationen“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ung“: kurzlebige Objekte, relativ häufige 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lt“: Überlebende aus „jung“, seltenere 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Verfahren in den beiden Bereic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2362320"/>
            <a:ext cx="228600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LebensdauerObjekte" descr=""/>
          <p:cNvPicPr/>
          <p:nvPr/>
        </p:nvPicPr>
        <p:blipFill>
          <a:blip r:embed="rId1"/>
          <a:stretch/>
        </p:blipFill>
        <p:spPr>
          <a:xfrm>
            <a:off x="5970600" y="2286000"/>
            <a:ext cx="2563920" cy="1773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00200" y="5667480"/>
            <a:ext cx="5410080" cy="685800"/>
          </a:xfrm>
          <a:prstGeom prst="rect">
            <a:avLst/>
          </a:prstGeom>
          <a:solidFill>
            <a:srgbClr val="bebe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t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5667480"/>
            <a:ext cx="1981080" cy="6858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B1D-9CF8-426D-9DD3-4B8F415D2A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C im „jungen“ Bereic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bjekte werden in „Eden“ erzeug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ie Überlebenden einer GC werden in einen separaten Bereich kopiert, Eden ist wieder fre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ieses Verfahren ist das schnells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s braucht zusätzlichen Speicherplatz für den Überlebenden-Berei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er Überlebenden-Bereich kann viel kleiner sein als Ed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5334120"/>
            <a:ext cx="5410080" cy="685800"/>
          </a:xfrm>
          <a:prstGeom prst="rect">
            <a:avLst/>
          </a:prstGeom>
          <a:solidFill>
            <a:srgbClr val="ff993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urvivors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5334120"/>
            <a:ext cx="4724280" cy="6858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7C8-7E33-4049-81AD-23C65DCFF0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C im „alten“ Bereic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r Anteil an Überlebenden einer GC ist im „alten“ Bereich deutlich hö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pieren in separaten Bereich wäre verschwenderis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peicherfragmentierung fällt mehr ins Gewic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tandardverfahren: „Mark-compact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efragmentieren beim Kopieren, kann lange dau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krementelles Verfahren: „Train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C jeweils nur über einen Teil der Obje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ede einzelne GC dauert weniger 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gesamt ca. 10% langsamer als „Mark-compact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E13-0A2B-40F3-91FA-3F4AE0B55F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Konfiguration der G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s gibt drei Konfigurationsmöglichkeit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esamtgröße des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ößenverhältnis der Genera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C-Verfah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3505320"/>
            <a:ext cx="60199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GcKonfiguration" descr=""/>
          <p:cNvPicPr/>
          <p:nvPr/>
        </p:nvPicPr>
        <p:blipFill>
          <a:blip r:embed="rId1"/>
          <a:stretch/>
        </p:blipFill>
        <p:spPr>
          <a:xfrm>
            <a:off x="1257480" y="3352680"/>
            <a:ext cx="605772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23E-A097-454A-B778-B9057752D4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Kommandozeilenparamet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ogging zum Messen und Korrig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-Xloggc:&lt;fi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samtgröße des 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-Xms, -Xmx: initiale und maximale Heap-Größ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rößenverhältnis der Generation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-XX:NewRatio: Größenverhältnis alt/j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-XX:NewSize: absolute Größe der jungen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C-Verfah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-Xincgc: „t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-XX:+UseParallelGC: „parallel“ (ab 1.4.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F5D-88EB-4846-8EFA-4EE3BD7BFA5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C räumt nicht jedes Objekt auf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s gibt keine Garantie, dass die GC ein bestimmtes Objekt jemals freigib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s kann sein, dass immer die anderen Objekte freigegeben werd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s kann sein, dass der JVM-Prozess vorher beendet wi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Ressourcen in einem finally-Block freige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inalize-Methode ist unsi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öglichkeit, finally-Blöcke mit anonymen lokalen Klassen zu kapsel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6DA-74F9-4A45-8A89-C8D9FAD2D46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Literatu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866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Java Language Specification, 2nd ed., Gosling, Joy, Steele, Br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Java Virtual Machine Specification, Lindholm, Yel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erformance Documentation for the JavaHotSpot VM: http://java.sun.com/docs/hotspot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“Double-Checked Locking is Broken“ Declaration: http://www.cs.umd.edu/~pugh/java/memoryModel/DoubleCheckedLocking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BDRSC027" descr=""/>
          <p:cNvPicPr/>
          <p:nvPr/>
        </p:nvPicPr>
        <p:blipFill>
          <a:blip r:embed="rId1"/>
          <a:stretch/>
        </p:blipFill>
        <p:spPr>
          <a:xfrm>
            <a:off x="7772400" y="1000080"/>
            <a:ext cx="851040" cy="494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9BE-8DF0-4162-BF79-68E89389366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Erzeugen einer Klasse: Lad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23720" y="1523880"/>
            <a:ext cx="5334120" cy="4572000"/>
          </a:xfrm>
          <a:prstGeom prst="rect">
            <a:avLst/>
          </a:prstGeom>
          <a:noFill/>
          <a:ln w="9360">
            <a:solidFill>
              <a:srgbClr val="bebe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reitstellen der Rohdaten als Byte-Fol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Überschreiben von ClassLoader.find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ßerdem erste Überprüfung in ClassLoader.define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UN teil den Ablauf so e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ögliche Fehl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lassCircularity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lassFormat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oClassDefFound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utOfMemory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523880"/>
            <a:ext cx="1600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743200"/>
            <a:ext cx="1600200" cy="7621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rifiz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962520"/>
            <a:ext cx="1600200" cy="7617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181480"/>
            <a:ext cx="1600200" cy="7621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y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flö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2336760"/>
            <a:ext cx="457200" cy="38088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6080" y="3557520"/>
            <a:ext cx="457200" cy="38124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4776840"/>
            <a:ext cx="457200" cy="38088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0B1-2D2B-44B4-A2B8-B873967675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Erzeugen einer Klasse: Verifizier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23720" y="1523880"/>
            <a:ext cx="5334120" cy="4572000"/>
          </a:xfrm>
          <a:prstGeom prst="rect">
            <a:avLst/>
          </a:prstGeom>
          <a:noFill/>
          <a:ln w="9360">
            <a:solidFill>
              <a:srgbClr val="bebe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Überprüfung der Klas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haltung des Typ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Gültigkeit der Bytec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Gültigkeit der Ziele von Sprü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chutz vor bösartigem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eil von ClassLoader.define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eser Schritt kann nicht umgangen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ögliche Fehl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ify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523880"/>
            <a:ext cx="1600200" cy="7621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743200"/>
            <a:ext cx="1600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rifiz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962520"/>
            <a:ext cx="1600200" cy="7617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5181480"/>
            <a:ext cx="1600200" cy="7621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y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flö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86080" y="2336760"/>
            <a:ext cx="457200" cy="38088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86080" y="3557520"/>
            <a:ext cx="457200" cy="38124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86080" y="4776840"/>
            <a:ext cx="457200" cy="38088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F92-CE4E-413D-90D5-7505EB1B5C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Erzeugen einer Klasse: Vorbereitu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23720" y="1523880"/>
            <a:ext cx="5334120" cy="4572000"/>
          </a:xfrm>
          <a:prstGeom prst="rect">
            <a:avLst/>
          </a:prstGeom>
          <a:noFill/>
          <a:ln w="9360">
            <a:solidFill>
              <a:srgbClr val="bebe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er Speicher für statische Daten wird beleg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e Initialisierung erfolgt 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noch nicht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! Sie erfolgt erst bei der ersten Benutzu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terne Datenstrukturen werden angeleg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ethodentabelle inkl. Superklas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dex implementierter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ögliche Fehl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utOfMemory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523880"/>
            <a:ext cx="1600200" cy="7621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743200"/>
            <a:ext cx="1600200" cy="7621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rifiz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3962520"/>
            <a:ext cx="1600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5181480"/>
            <a:ext cx="1600200" cy="7621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y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flö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86080" y="2336760"/>
            <a:ext cx="457200" cy="38088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6080" y="3557520"/>
            <a:ext cx="457200" cy="38124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86080" y="4776840"/>
            <a:ext cx="457200" cy="38088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60F-0BB7-49EE-BA29-97DCEB063A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Erzeugen einer Klasse: Typen auflös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23720" y="1523880"/>
            <a:ext cx="5334120" cy="4572000"/>
          </a:xfrm>
          <a:prstGeom prst="rect">
            <a:avLst/>
          </a:prstGeom>
          <a:noFill/>
          <a:ln w="9360">
            <a:solidFill>
              <a:srgbClr val="bebe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achladen von referenzierten Klas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Prüfung, ob Methoden und Attribute vorhanden si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Typprüf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Prüfung der Sichtbark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eitpunkt der Prüfung ist nicht vorgeschrieb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eim Erzeugen oder erst bei der Verwend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ögliche Fehl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oSuchMethodEr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IllegalAccessEr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dere IncompatibleClassChangeError-Klass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utOfMemoryEr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523880"/>
            <a:ext cx="1600200" cy="7621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743200"/>
            <a:ext cx="1600200" cy="7621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rifiz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962520"/>
            <a:ext cx="1600200" cy="7617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181480"/>
            <a:ext cx="1600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y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flö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2336760"/>
            <a:ext cx="457200" cy="38088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6080" y="3557520"/>
            <a:ext cx="457200" cy="38124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6080" y="4776840"/>
            <a:ext cx="457200" cy="380880"/>
          </a:xfrm>
          <a:prstGeom prst="downArrow">
            <a:avLst>
              <a:gd name="adj1" fmla="val 42704"/>
              <a:gd name="adj2" fmla="val 45000"/>
            </a:avLst>
          </a:prstGeom>
          <a:solidFill>
            <a:srgbClr val="be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2DC-EA6F-4DCC-AB4D-099515EBA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3333cc"/>
            </a:gs>
            <a:gs pos="100000">
              <a:srgbClr val="191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Hierarchie der ClassLoa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eder ClassLoader hat einen „Parent“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vor ein ClassLoader selbst versucht, eine Klasse zu laden, delegiert er an den Par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enn der Parent die Klasse liefern kann, wird die Version vom Parent verwende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ur wenn der Parent (und damit rekursiv dessen Parents) die Klasse nicht liefern können, wird der ClassLoader selbst akti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ese Delegation ist nur Konven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ute“ ClassLoader haben folgende Eigenschaft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ehrere Anfragen mit dem gleichen Klassennamen liefern das selbe Class-Objek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enn eine Klasse vom Parent geliefert wird, sollten alle Klassen, von denen A abhängt, auch vom Parent geliefert werd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iele ClassLoader cachen (müssen aber nicht, z.B. JUni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A50-B628-4A54-A6DC-5D1A1824BE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2:24Z</dcterms:created>
  <dc:creator>Arno Haase</dc:creator>
  <dc:description/>
  <dc:language>en-US</dc:language>
  <cp:lastModifiedBy>Arno Haase</cp:lastModifiedBy>
  <dcterms:modified xsi:type="dcterms:W3CDTF">2004-05-20T14:53:50Z</dcterms:modified>
  <cp:revision>473</cp:revision>
  <dc:subject/>
  <dc:title>Eine Pattern-Sprache zur Strukturierung großer Software-Systeme mit Java  </dc:title>
</cp:coreProperties>
</file>